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8E04-AE13-45CE-9A4D-9EA39C9E4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made assumptions for labor co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labor bureau data used to estimate salary for each category of wor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ew hires; no relocation packages for current employ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BDF75-4818-4874-B956-79216001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BF04A-198C-4E6C-AD94-497BE975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11E33-8E53-49D4-AA46-AA48B983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662CA-A4A0-4639-8441-31671781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58E8E-94FE-4A00-A6A1-821FB516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AD842-C366-44C1-9CC4-9E735662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EBC7C-C185-48D4-B1F2-CC6A972B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D38A4-CE59-4FCA-B7C0-F7DE0FFF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A6AD1-F1DC-43D9-BA31-BB3539AA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8F7C8-57AF-435A-BB15-1DD827EC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51342-C409-49E5-9804-B8659067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8BF33-0FFE-4D9E-B0C8-6620B22D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6585120"/>
            <a:ext cx="3962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cision Models Final Project – Group 2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45CC-1BA4-4CFA-AAFD-CB15AB98EC2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1219320"/>
            <a:ext cx="81536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Corporate Division Location</a:t>
            </a:r>
            <a:endParaRPr b="1" lang="en-US" sz="5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ichael Hochana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isa Loren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uryn McDon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sion Models – Prof. Jur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1, 20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Build office space?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520" y="5791320"/>
            <a:ext cx="854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jected NPV of costs to build new office space in each potential lo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ary expense, state incentives built into NPV calcul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520560" y="1444680"/>
            <a:ext cx="810288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Or lease?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380880" y="1595520"/>
            <a:ext cx="82425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Must build manufacturing facility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520560" y="1673280"/>
            <a:ext cx="810288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Distance penalties used to account for location needs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ement frequently travel within and outside of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ance from airport is built in as a penalty, as is labor c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er penalty for more expensive labor force to spend time traveling to the air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ice workers will also travel to manufacturing s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Kentucky Map"/>
          <p:cNvPicPr/>
          <p:nvPr/>
        </p:nvPicPr>
        <p:blipFill>
          <a:blip r:embed="rId1"/>
          <a:stretch/>
        </p:blipFill>
        <p:spPr>
          <a:xfrm>
            <a:off x="1828800" y="2514600"/>
            <a:ext cx="5091120" cy="37987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he winning location is…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04760" y="1599840"/>
            <a:ext cx="5105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Lexington, KY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 rot="10800000">
            <a:off x="3200400" y="3809880"/>
            <a:ext cx="1905120" cy="533520"/>
          </a:xfrm>
          <a:prstGeom prst="leftArrow">
            <a:avLst>
              <a:gd name="adj1" fmla="val 50000"/>
              <a:gd name="adj2" fmla="val 8927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ensitivity Analysis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conditional formatting to identify low-, mid-, and high-cost pro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rcRect l="0" t="22503" r="0" b="12502"/>
          <a:stretch/>
        </p:blipFill>
        <p:spPr>
          <a:xfrm>
            <a:off x="533520" y="2579760"/>
            <a:ext cx="83055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ensitivity Analysis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 WACC to determine impact on results via solver 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7043760" cy="13683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453960" y="4800600"/>
            <a:ext cx="8540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 is same with different WACC, but adjusting other variables would change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Additional considerations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ximity of manufacturing site to major shipping 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ailability of labor in each 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ice proximity to corporate HQ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act of % travel time for senior management, sta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s?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he problem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client must identify a new location for a division HQ and manufacturing fac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ing multiple locations in eastern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ision by minimizing NPV for both pro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Multiple factors will influence NPV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jor consider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ital investment for real e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incentive pack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t of local labor fo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ximity to international airport (HQ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ance between the two fac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Real estate assumptions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84960" cy="25700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752480" y="3983040"/>
            <a:ext cx="548640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11 states under consideration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8077320" cy="52992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6781680" y="3581280"/>
            <a:ext cx="30492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162920" y="3124080"/>
            <a:ext cx="30456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91520" y="3352680"/>
            <a:ext cx="30456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2819520"/>
            <a:ext cx="304560" cy="3045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48520" y="3886200"/>
            <a:ext cx="30456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4114800"/>
            <a:ext cx="30492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696080" y="3124080"/>
            <a:ext cx="30492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4495680"/>
            <a:ext cx="30492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95880" y="4267080"/>
            <a:ext cx="30492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4876920"/>
            <a:ext cx="304560" cy="3045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238880" y="3733920"/>
            <a:ext cx="304920" cy="3045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Making the decision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calculates NPV based on four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77680" indent="-438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te cost - off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7680" indent="-438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te cost - manufactu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7680" indent="-438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ance penal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7680" indent="-438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rport penal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ver optimizes location combination for office &amp; manufactu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tion to compare choices manu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Manual decision analysis &amp; Solver optimization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5638680" y="40384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alculations for each component of the NPV are broken out in separate workshee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38680" y="2514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ummary tab aggregates costs for each 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rcRect l="0" t="17877" r="46882" b="12502"/>
          <a:stretch/>
        </p:blipFill>
        <p:spPr>
          <a:xfrm>
            <a:off x="228600" y="1523880"/>
            <a:ext cx="5181480" cy="50929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 flipH="1">
            <a:off x="1904760" y="3733920"/>
            <a:ext cx="380988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504960" y="4952880"/>
            <a:ext cx="2057400" cy="1447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alary costs vary by state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68200" y="2484360"/>
            <a:ext cx="85708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States incentivize business development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6807240" cy="44989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7238880" y="304812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ncentives are built into sit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2:47:15Z</dcterms:created>
  <dc:creator>Lauryn McDonough</dc:creator>
  <dc:description/>
  <dc:language>en-US</dc:language>
  <cp:lastModifiedBy>Owen Graduate Student</cp:lastModifiedBy>
  <dcterms:modified xsi:type="dcterms:W3CDTF">2006-05-01T16:33:27Z</dcterms:modified>
  <cp:revision>23</cp:revision>
  <dc:subject/>
  <dc:title>Corporate Division Reloc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87657343</vt:r8>
  </property>
  <property fmtid="{D5CDD505-2E9C-101B-9397-08002B2CF9AE}" pid="3" name="_AuthorEmail">
    <vt:lpwstr>lauryn.mcdonough@stern.nyu.edu</vt:lpwstr>
  </property>
  <property fmtid="{D5CDD505-2E9C-101B-9397-08002B2CF9AE}" pid="4" name="_AuthorEmailDisplayName">
    <vt:lpwstr>Lauryn McDonough</vt:lpwstr>
  </property>
  <property fmtid="{D5CDD505-2E9C-101B-9397-08002B2CF9AE}" pid="5" name="_EmailSubject">
    <vt:lpwstr>Final DM PPT &amp; Word</vt:lpwstr>
  </property>
</Properties>
</file>